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5ECC-9A01-4181-A5D0-251B8236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B75-B8B7-4A2E-80BB-85A3E391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21E2-1160-48D6-8881-301D029C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A940-91C0-47EC-83F8-72F3ECA0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298-F3C9-431C-BB25-01E79DE3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526-04FB-4014-958F-3EBDFF71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CB59-93E6-4033-8F06-1B0A140A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D0EB-8FCA-4CF5-BA83-A184BFD7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BA0-BF8D-4E87-9331-05F0BF57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AAAD-D588-42F1-BFBC-992E4A33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68B-0AAA-487F-8EFC-B921B35E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B50-E99C-442B-99AF-833EE112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BB02-6192-475B-BF96-B83CACCE7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GIZ</a:t>
            </a:r>
            <a:br>
              <a:rPr sz="4400"/>
            </a:br>
            <a:r>
              <a:rPr b="1" lang="sr-Latn-CS" sz="4400" spc="-1" strike="noStrike">
                <a:solidFill>
                  <a:srgbClr val="a50021"/>
                </a:solidFill>
                <a:latin typeface="Arial"/>
              </a:rPr>
              <a:t>Profesionalna orijentacija na prelasku u srednju šk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deli implementacije programa profesionalne orijen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odeli implementa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rukulum: 7. i 8. razred – nastava profesionalne orijent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nterdisciplinarno/kroskurikularno – integrisana u nastavne predm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O u okviru projek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Kurik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mostalan predmet se više c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 u toku godine sa jednim časom nedeljno omogućava primenu petofaznog mode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napredjuje se I razvija lična, predmetna I metodička kompeten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ci doživljavaju aktivnu nast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tvoreni vidovi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bezbedjena primena vežb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ljučne kompetencije se prenose na efikasan nač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nažnije otvaranje škole prema spoljnjem svetu – 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ogućnost organizacije realnih susr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ransparentnost o zbivanjima u nastavi za roditelje/staratel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anje posla oko koordina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oditelji/staratelji prepoznaju dobit za decu kroz pripremu za buduće zanimanje I ško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o praćen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a50021"/>
                </a:solidFill>
                <a:latin typeface="Arial"/>
              </a:rPr>
              <a:t>Interdisciplinarno/kroskurikularno – integrisana u nastavne predm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 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8.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razredu integriš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a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30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časova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 u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met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a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interdisciplina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dlik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e prepoznavanje značaja PO za nastavnike, roditelje/staratelje I eksterne školske partn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še posla oko koordin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orijentisanost prema nastavnom pl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težana realizacija petofaznog modela u pra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kontinuiteta za razvoj kompetencije orijent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voljno vežbi sa primenom različitih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eže otvaranje škole iz organizacionih razlo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mogućnost za sprovodje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transparentnosti za roditelje/starate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datni časovi za ostvariva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a50021"/>
                </a:solidFill>
                <a:latin typeface="Arial"/>
              </a:rPr>
              <a:t>PO u okviru projek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nje se opaža značaj PO kao doprinos životnoj orijent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no je još termina od jednog ( školska godina ) za projek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petofazng modela može duže da 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petencija orijentacije može da se razvija I unapredju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otvorenih vidova učenja postoji ali nedostaje kontinu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tvaranje škole prema spolja zavisi od strukture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ći poslovi koordin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datni časovi za realne susrete u 7. I 8. razr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no ostvarljivo u praksi - potvrdjuje iskustvo iz pilot projek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mpetenci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k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1143000"/>
          <a:ext cx="861048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610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ala </a:t>
            </a: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pomoć prijatelja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4382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 pred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odeljenjske zajednice za učenike/ce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kroz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slobodnih vannastavnih aktivnosti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Vaš predlog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j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1-10-04T13:20:4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